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700-70A0-48A8-93E9-17FF50A3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D50-6A97-43E8-952E-D374112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CA4-960D-42F6-8144-F537A7A7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86C-288D-42FD-AEE3-9CF137F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EE3-FBEF-4C3B-9F1F-40EFB2D4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8BB-FBB3-4476-858B-D2A8D84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0BD-3BA0-4225-A3D0-63CB841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F9F-9B07-4D3F-874E-E8290EC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C04-E143-4D8A-9611-9E71036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E31-E1C2-4868-A663-2675590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4A2-060C-429E-9128-77D932B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C9D-2B6B-422E-9B3F-9FB1B724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48E-117D-49C7-A151-B21F2A6C69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2880" y="2928960"/>
            <a:ext cx="43196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2f2f2"/>
                </a:solidFill>
                <a:latin typeface="Agency FB"/>
              </a:rPr>
              <a:t>EFFECTIVE  COMMUNICATION AND MARKETING SKI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Marke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Know your strength and weak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The capability of evaluating and understa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a business’ </a:t>
            </a:r>
            <a:r>
              <a:rPr b="1" lang="en-US" sz="1600" spc="-1" strike="noStrike">
                <a:solidFill>
                  <a:srgbClr val="b00000"/>
                </a:solidFill>
                <a:latin typeface="Arial"/>
              </a:rPr>
              <a:t>strengths, weaknesses,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b00000"/>
                </a:solidFill>
                <a:latin typeface="Arial"/>
              </a:rPr>
              <a:t>and threats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b00000"/>
                </a:solidFill>
                <a:latin typeface="Arial"/>
              </a:rPr>
              <a:t>(SWOT Analysis)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will help a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to make informed decisions and deliver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business’s marketing effectively. If the Mark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can know the pros and cons of the business’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operating systems, financial commitments,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obligations and workforce skills, it makes it eas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to identify appropriate marketing campaig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dentifying-your-business-strengths-and-weaknesses.jpg"/>
          <p:cNvPicPr/>
          <p:nvPr/>
        </p:nvPicPr>
        <p:blipFill>
          <a:blip r:embed="rId1"/>
          <a:stretch/>
        </p:blipFill>
        <p:spPr>
          <a:xfrm>
            <a:off x="5778360" y="2639880"/>
            <a:ext cx="2853000" cy="22971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Marke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nducting a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A marketer must be adept with the skill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know how of </a:t>
            </a:r>
            <a:r>
              <a:rPr b="1" i="1" lang="en-US" sz="1600" spc="-1" strike="noStrike">
                <a:solidFill>
                  <a:srgbClr val="b00000"/>
                </a:solidFill>
                <a:latin typeface="Arial"/>
              </a:rPr>
              <a:t>conducting marketing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Coupled with sound SWOT Analysis finding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00000"/>
                </a:solidFill>
                <a:latin typeface="Arial"/>
              </a:rPr>
              <a:t>critical information collected prior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00000"/>
                </a:solidFill>
                <a:latin typeface="Arial"/>
              </a:rPr>
              <a:t>campaigns</a:t>
            </a: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can help identify training need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good, marketing decisions includ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Developing  a targeted, direct mail campaign wi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a compiled database, sound marketing budg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and identification of the best marketing mix that appe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the target mar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mr5.png"/>
          <p:cNvPicPr/>
          <p:nvPr/>
        </p:nvPicPr>
        <p:blipFill>
          <a:blip r:embed="rId1"/>
          <a:stretch/>
        </p:blipFill>
        <p:spPr>
          <a:xfrm>
            <a:off x="5429160" y="192888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3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Marke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b00000"/>
                </a:solidFill>
                <a:latin typeface="Britannic Bold"/>
              </a:rPr>
              <a:t>Capability in Custom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A marketer must have </a:t>
            </a:r>
            <a:r>
              <a:rPr b="1" i="1" lang="en-US" sz="1400" spc="-1" strike="noStrike">
                <a:solidFill>
                  <a:srgbClr val="00458a"/>
                </a:solidFill>
                <a:latin typeface="Arial"/>
              </a:rPr>
              <a:t>a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trong propensity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erve customers well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– putting custom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first and benefits to business second.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key rests in well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founded capabiliti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roviding excellent customer services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Aspects such good listening skill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skills to identify accurat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before handling customers enqui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and queries are valuable. Tim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responses to customers need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wants helps to build custom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458a"/>
                </a:solidFill>
                <a:latin typeface="Arial"/>
              </a:rPr>
              <a:t>confidence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saas-customer-service.jpg"/>
          <p:cNvPicPr/>
          <p:nvPr/>
        </p:nvPicPr>
        <p:blipFill>
          <a:blip r:embed="rId1"/>
          <a:stretch/>
        </p:blipFill>
        <p:spPr>
          <a:xfrm>
            <a:off x="4492800" y="2919240"/>
            <a:ext cx="2871720" cy="2872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out" orient="horz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304164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00000"/>
                </a:solidFill>
                <a:latin typeface="Arial"/>
              </a:rPr>
              <a:t>THANK YOU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Pream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2960" y="119664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Marketing </a:t>
            </a:r>
            <a:r>
              <a:rPr b="0" lang="en-US" sz="2000" spc="-1" strike="noStrike">
                <a:solidFill>
                  <a:srgbClr val="c00000"/>
                </a:solidFill>
                <a:latin typeface="Britannic Bol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4684"/>
                </a:solidFill>
                <a:latin typeface="Britannic Bold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ZA" sz="1200" spc="-1" strike="noStrike">
                <a:solidFill>
                  <a:srgbClr val="024684"/>
                </a:solidFill>
                <a:latin typeface="Arial"/>
              </a:rPr>
              <a:t>“</a:t>
            </a:r>
            <a:r>
              <a:rPr b="1" lang="en-ZA" sz="1300" spc="-1" strike="noStrike">
                <a:solidFill>
                  <a:srgbClr val="024684"/>
                </a:solidFill>
                <a:latin typeface="Arial"/>
              </a:rPr>
              <a:t>Marketing is the social process by which individuals and groups obtain what they ne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300" spc="-1" strike="noStrike">
                <a:solidFill>
                  <a:srgbClr val="024684"/>
                </a:solidFill>
                <a:latin typeface="Arial"/>
              </a:rPr>
              <a:t>   </a:t>
            </a:r>
            <a:r>
              <a:rPr b="1" lang="en-ZA" sz="1300" spc="-1" strike="noStrike">
                <a:solidFill>
                  <a:srgbClr val="024684"/>
                </a:solidFill>
                <a:latin typeface="Arial"/>
              </a:rPr>
              <a:t>and want through creating and exchanging products and value with others.”</a:t>
            </a:r>
            <a:br>
              <a:rPr sz="1200"/>
            </a:br>
            <a:r>
              <a:rPr b="1" i="1" lang="en-ZA" sz="1200" spc="-1" strike="noStrike">
                <a:solidFill>
                  <a:srgbClr val="c00000"/>
                </a:solidFill>
                <a:latin typeface="Arial"/>
              </a:rPr>
              <a:t>- Philip Kotler ("Marketing Management")</a:t>
            </a: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24684"/>
                </a:solidFill>
                <a:latin typeface="Arial"/>
              </a:rPr>
              <a:t>“ </a:t>
            </a:r>
            <a:r>
              <a:rPr b="1" lang="en-ZA" sz="1200" spc="-1" strike="noStrike">
                <a:solidFill>
                  <a:srgbClr val="024684"/>
                </a:solidFill>
                <a:latin typeface="Arial"/>
              </a:rPr>
              <a:t>Marketing is “The management process responsible for identifying, anticipating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24684"/>
                </a:solidFill>
                <a:latin typeface="Arial"/>
              </a:rPr>
              <a:t>   </a:t>
            </a:r>
            <a:r>
              <a:rPr b="1" lang="en-ZA" sz="1200" spc="-1" strike="noStrike">
                <a:solidFill>
                  <a:srgbClr val="024684"/>
                </a:solidFill>
                <a:latin typeface="Arial"/>
              </a:rPr>
              <a:t>satisfying customer requirements profitabl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en-ZA" sz="12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en-ZA" sz="1200" spc="-1" strike="noStrike">
                <a:solidFill>
                  <a:srgbClr val="c00000"/>
                </a:solidFill>
                <a:latin typeface="Arial"/>
              </a:rPr>
              <a:t>The Chartered Institute of Marketing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4684"/>
                </a:solidFill>
                <a:latin typeface="Arial"/>
              </a:rPr>
              <a:t>Drawing from the two mentioned advocates’ marketing definitions Marketing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4684"/>
                </a:solidFill>
                <a:latin typeface="Arial"/>
              </a:rPr>
              <a:t>entails  “</a:t>
            </a:r>
            <a:r>
              <a:rPr b="1" i="1" lang="en-US" sz="1200" spc="-1" strike="noStrike">
                <a:solidFill>
                  <a:srgbClr val="b00000"/>
                </a:solidFill>
                <a:latin typeface="Arial"/>
              </a:rPr>
              <a:t>human activities  institutes employ to identify consumer needs and wants so as to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00000"/>
                </a:solidFill>
                <a:latin typeface="Arial"/>
              </a:rPr>
              <a:t>different offerings such as products, services, ideas, concepts and information in order to ex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00000"/>
                </a:solidFill>
                <a:latin typeface="Arial"/>
              </a:rPr>
              <a:t>and meet total consumer satisfaction</a:t>
            </a:r>
            <a:r>
              <a:rPr b="1" i="1" lang="en-US" sz="1200" spc="-1" strike="noStrike">
                <a:solidFill>
                  <a:srgbClr val="024684"/>
                </a:solidFill>
                <a:latin typeface="Arial"/>
              </a:rPr>
              <a:t>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Key Areas to effective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57160" y="242892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Effective Communication </a:t>
            </a:r>
            <a:endParaRPr b="0" lang="en-US" sz="2800" spc="-1" strike="noStrike">
              <a:solidFill>
                <a:srgbClr val="b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28800" y="44290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Marketing Skills </a:t>
            </a:r>
            <a:endParaRPr b="0" lang="en-US" sz="2800" spc="-1" strike="noStrike">
              <a:solidFill>
                <a:srgbClr val="b00000"/>
              </a:solidFill>
              <a:latin typeface="Arial"/>
            </a:endParaRPr>
          </a:p>
        </p:txBody>
      </p:sp>
      <p:pic>
        <p:nvPicPr>
          <p:cNvPr id="49" name="Picture 6" descr="Internet%20Marketing%20vs%20Traditional%20Marketing-resized-600.jpg"/>
          <p:cNvPicPr/>
          <p:nvPr/>
        </p:nvPicPr>
        <p:blipFill>
          <a:blip r:embed="rId1"/>
          <a:stretch/>
        </p:blipFill>
        <p:spPr>
          <a:xfrm>
            <a:off x="5205240" y="2139840"/>
            <a:ext cx="2586240" cy="172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Networkingpic.jpg"/>
          <p:cNvPicPr/>
          <p:nvPr/>
        </p:nvPicPr>
        <p:blipFill>
          <a:blip r:embed="rId2"/>
          <a:stretch/>
        </p:blipFill>
        <p:spPr>
          <a:xfrm>
            <a:off x="4992840" y="4352760"/>
            <a:ext cx="2377800" cy="1584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itannic Bold"/>
              </a:rPr>
              <a:t>Communication Methods</a:t>
            </a: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121392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Sales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Personal 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ritannic Bold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Communication Meth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Personal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The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presentation of a persuasive message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by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seller to a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potential customer or group of customers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generally in a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face-to-face meeting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.</a:t>
            </a:r>
            <a:br>
              <a:rPr sz="1400"/>
            </a:b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Pub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Information that concerns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a person, group, ev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     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or product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and that is disseminated through vario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media to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attract public 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aria+Ramos+XXX.jpg"/>
          <p:cNvPicPr/>
          <p:nvPr/>
        </p:nvPicPr>
        <p:blipFill>
          <a:blip r:embed="rId1"/>
          <a:stretch/>
        </p:blipFill>
        <p:spPr>
          <a:xfrm>
            <a:off x="5638680" y="4138560"/>
            <a:ext cx="2938680" cy="184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ersonal-selling-380.jpg"/>
          <p:cNvPicPr/>
          <p:nvPr/>
        </p:nvPicPr>
        <p:blipFill>
          <a:blip r:embed="rId2"/>
          <a:stretch/>
        </p:blipFill>
        <p:spPr>
          <a:xfrm>
            <a:off x="5924520" y="2279520"/>
            <a:ext cx="2335320" cy="1560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Communication Meth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is the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nonpersonal communication 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of 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usually </a:t>
            </a:r>
            <a:r>
              <a:rPr b="1" lang="en-US" sz="1400" spc="-1" strike="noStrike">
                <a:solidFill>
                  <a:srgbClr val="b00000"/>
                </a:solidFill>
                <a:latin typeface="Arial"/>
              </a:rPr>
              <a:t>paid </a:t>
            </a:r>
            <a:r>
              <a:rPr b="1" i="1" lang="en-US" sz="1400" spc="-1" strike="noStrike">
                <a:solidFill>
                  <a:srgbClr val="b00000"/>
                </a:solidFill>
                <a:latin typeface="Arial"/>
              </a:rPr>
              <a:t>for</a:t>
            </a:r>
            <a:r>
              <a:rPr b="1" i="1" lang="en-US" sz="1400" spc="-1" strike="noStrike">
                <a:solidFill>
                  <a:srgbClr val="024684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and usually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ersuasive in na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about </a:t>
            </a:r>
            <a:r>
              <a:rPr b="1" i="1" lang="en-US" sz="1400" spc="-1" strike="noStrike">
                <a:solidFill>
                  <a:srgbClr val="b00000"/>
                </a:solidFill>
                <a:latin typeface="Arial"/>
              </a:rPr>
              <a:t>products, services or ideas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 by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sponsors through the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various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Sale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the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methods or techniques for creating public accep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of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or interest in a product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, usually in addition to stand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merchandising techniques, as advertising or per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     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selling, and generally consisting of the offer of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free samp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gifts made to a purchaser, or the like.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billboard-advertisement.jpg"/>
          <p:cNvPicPr/>
          <p:nvPr/>
        </p:nvPicPr>
        <p:blipFill>
          <a:blip r:embed="rId1"/>
          <a:stretch/>
        </p:blipFill>
        <p:spPr>
          <a:xfrm>
            <a:off x="5797440" y="196200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Sales-Promotion-Cider.jpg"/>
          <p:cNvPicPr/>
          <p:nvPr/>
        </p:nvPicPr>
        <p:blipFill>
          <a:blip r:embed="rId2"/>
          <a:stretch/>
        </p:blipFill>
        <p:spPr>
          <a:xfrm>
            <a:off x="5834160" y="3925800"/>
            <a:ext cx="2833560" cy="4206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Communication Meth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itannic Bold"/>
              </a:rPr>
              <a:t>Publ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2468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is a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strategic communication process 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	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builds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mutually beneficial relationsh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	</a:t>
            </a: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between </a:t>
            </a:r>
            <a:r>
              <a:rPr b="1" i="1" lang="en-ZA" sz="1400" spc="-1" strike="noStrike">
                <a:solidFill>
                  <a:srgbClr val="c00000"/>
                </a:solidFill>
                <a:latin typeface="Arial"/>
              </a:rPr>
              <a:t>organizations and their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The effectiveness of all these Communication Methods will be indicated  by some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4684"/>
                </a:solidFill>
                <a:latin typeface="Arial"/>
              </a:rPr>
              <a:t>followings key perfomance indicators inter alia :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creased Customer response, In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Sales, Increased demand for the product or service, increased market share and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growt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Effectiveness and proficiency of an institute in its Marketing Effort will depend largely on h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it exploits the various communication methods mentioned to relate creatively, productivel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24684"/>
                </a:solidFill>
                <a:latin typeface="Arial"/>
              </a:rPr>
              <a:t>efficiency or profitably to its target mark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ublic-Relation-Functions.jpg"/>
          <p:cNvPicPr/>
          <p:nvPr/>
        </p:nvPicPr>
        <p:blipFill>
          <a:blip r:embed="rId1"/>
          <a:stretch/>
        </p:blipFill>
        <p:spPr>
          <a:xfrm>
            <a:off x="5138640" y="2279520"/>
            <a:ext cx="2511360" cy="147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Marke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2205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8a"/>
                </a:solidFill>
                <a:latin typeface="Arial"/>
              </a:rPr>
              <a:t>Effective Marketing Campaigns require a range of skills and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mmunicate, Negotiate an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llaborate with sale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Know your strength and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nducting a Market 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apability in Custom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Britannic Bold"/>
              </a:rPr>
              <a:t>Marke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mmunicate, Negotiate an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Excellent marketers are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strong communicator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shrewd business operators</a:t>
            </a: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. They have vibr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communication skills</a:t>
            </a: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 that help them  deal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suppliers and service providers, while dea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 </a:t>
            </a: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with customers and building valuable </a:t>
            </a: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Including  exploiting social media, blogging,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Campaigns and promotions. Popularly is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A web site which becomes the calling card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Busi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b00000"/>
                </a:solidFill>
                <a:latin typeface="Britannic Bold"/>
              </a:rPr>
              <a:t>Collaborate with sale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To expand  or run a growing business there might be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to separate sales and marketing teams. The sales t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still remains an essential part of a marketer’s mark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458a"/>
                </a:solidFill>
                <a:latin typeface="Arial"/>
              </a:rPr>
              <a:t>success and must be involved in marketing strate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This helps motivate a marketer’s salespeople to achie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b00000"/>
                </a:solidFill>
                <a:latin typeface="Arial"/>
              </a:rPr>
              <a:t>Marketing objecti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6a00d83451b96069e20148c5f37c69970c-800wi.jpg"/>
          <p:cNvPicPr/>
          <p:nvPr/>
        </p:nvPicPr>
        <p:blipFill>
          <a:blip r:embed="rId1"/>
          <a:stretch/>
        </p:blipFill>
        <p:spPr>
          <a:xfrm>
            <a:off x="5205240" y="2139840"/>
            <a:ext cx="3017880" cy="20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eam_work.jpg"/>
          <p:cNvPicPr/>
          <p:nvPr/>
        </p:nvPicPr>
        <p:blipFill>
          <a:blip r:embed="rId2"/>
          <a:stretch/>
        </p:blipFill>
        <p:spPr>
          <a:xfrm>
            <a:off x="5572080" y="4357800"/>
            <a:ext cx="2714760" cy="19461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/>
  <dc:description/>
  <dc:language>en-US</dc:language>
  <cp:lastModifiedBy>Bright</cp:lastModifiedBy>
  <dcterms:modified xsi:type="dcterms:W3CDTF">2013-08-23T07:14:35Z</dcterms:modified>
  <cp:revision>600</cp:revision>
  <dc:subject/>
  <dc:title>Diapositiva 1</dc:title>
</cp:coreProperties>
</file>